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E63B-A7E8-4126-AF46-A283B5794E9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0B62-2014-405E-A4B5-32C6274F3A1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3D46-ED82-414D-874C-D501698B7E0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57C1-5186-48C1-8BB6-1D9993D9292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751F-E7AE-46E9-A8F2-183DE9EDA19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782-CF1A-475B-BB00-2FDFFA8C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DD7-317F-4FC9-A9F6-69154482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D13-1D6B-4702-B2F4-B5072E6C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E14-A43F-447A-BECF-B2B78918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71F-BB5E-4AE0-A540-9F62CF7A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409-69B7-4B66-A38D-080F9CCB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7B1-9179-411D-AA66-DF04DE76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C53-15C8-4B4E-8661-E45BE81B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F92-019A-43C2-B37D-D76053C1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EF6-CA86-4728-BAB7-D313332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8DA-711B-443A-B26B-25AFB566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34F-257B-4229-BD6F-F36C008B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9938-B88C-4388-856E-FEAAB23D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photosynthesis---light-reactions-and-photophosphorylation?playlist=Biology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olcweb/cgi/pluginpop.cgi?it=swf::535::535::/sites/dl/free/0072437316/120072/bio13.swf::Photosynthetic%20Electron%20Transport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highered.mcgraw-hill.com/sites/0073383198/student_view0/chapter3/animation_quiz_-_photosynthetic_electron_transport_and_atp_synthesi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otochembgsu.com/students/ma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08/ch8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Sal Kh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khanacademy.org/#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yclic Electron Flow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hotosynthetic organisms have the components of cyclic photo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and plants have added components to the original system to make it mor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2-04-03T17:11:01Z</dcterms:modified>
  <cp:revision>89</cp:revision>
  <dc:subject/>
  <dc:title>Slide 1</dc:title>
</cp:coreProperties>
</file>